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A44-FFD0-4FDF-831E-38D09783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200-2784-4BC3-939C-E2B4FD04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232-AAF3-48DB-9C36-20CFFA9A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CC95-6FB3-4C4C-BDC5-A308F460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00E-E45A-489E-B868-BE8DA59F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56A-2CE4-462E-AA05-29673B93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120-48F4-49A9-B1DA-08C82CE7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765-7BA2-4AE9-8AC3-4B164099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2CE-9A62-437E-8A87-A1AF8AB8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D9B-CFBB-44BF-9307-CBA996C5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9DA-77DA-4C32-9CC8-934DC73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660-2D82-4B35-AC35-422252CA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4FC1-70C5-42E1-815E-71CD427FB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91947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NAVODILA OU O UPRAVIČENIH STROŠKIH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12560" y="1784520"/>
            <a:ext cx="962028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STANDARDNE LESTVICE STROŠKOV NA ENO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rezultat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 temeljijo na procesu in rezulta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formula za urno postavko stroškov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I ZNE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kombiniranje vseh oblik „POS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400"/>
            <a:ext cx="92613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erne.tanja@gov.si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73360" y="622080"/>
            <a:ext cx="7138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PODLAGE ZA PRIPRAVO NAVODIL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751040" y="2154240"/>
            <a:ext cx="80438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EVROPSKA ZAKONODA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premembe splošne uredbe in po posameznih sklad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ACIONALNA ZAKONOD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KUŠNJE 2007-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ontrola upraviče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reviz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50800" y="341280"/>
            <a:ext cx="67788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GLAVNE SPREMEMBE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521000" y="1633680"/>
            <a:ext cx="93088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548235"/>
                </a:solidFill>
                <a:latin typeface="Calibri"/>
              </a:rPr>
              <a:t>SPLOŠNE DEFINICIJE IN PRAV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ek nastane z dnem opravljene storitve oziroma z dnem dobave bla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Rač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 1.1.2016 elektronska izmenjava podatkov med udeleženci EK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jeme so določene v ZIPRS 14/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 okviru preverjanja upravičenosti se lahko zahteva dodatna dokazila, ki niso opredeljena v navodil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kazovanje upravičenosti je dolžnost upravičen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za operacije, ki so predmet državnih pomoči, je potrebno preveriti rok hrambe dokument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7040" y="187200"/>
            <a:ext cx="305136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INVESTICI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1640" y="1275840"/>
            <a:ext cx="9642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NAKUP ZGRA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is iz zemljiške knjige pridobi skrbnik pogodbe sam (javne evid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GRADNJA NEPREMIČN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javno-zasebno partner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pravnomočno gradbeno dovoljenje z vsemi sprememb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NAKUP NEZAZIDANIH ZEMLJIŠ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datek nakupa nezazidanega zemljišča ne sme predstavljati več kakor 10% skupnih upravičenih stroškov in izdatkov operacije (15% ali 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ke za nakup nezazidanega zemljišča se lahko takoj po opravljenih preverjanjih vključi v ZAP, vendar se pri zadnjem ZZI preveri višino obračunanega delež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is iz zemljiške knjige pridobi skrbnik pogodbe sam (javne evid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1419120" y="1919160"/>
            <a:ext cx="915048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OPREMA IN DRUGA OPREDMETENA OSNOV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up je upravičen tudi v okviru 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ravičen je nakup vozil (v kolikor je neposredno povezano s cilji operac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rema, ki ne presega nabavne vrednosti 500 EUR in S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fotografije opr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1093680" y="590400"/>
            <a:ext cx="8553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INVESTICI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95360" y="744480"/>
            <a:ext cx="6500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548235"/>
                </a:solidFill>
                <a:latin typeface="Calibri"/>
              </a:rPr>
              <a:t>AMORTIZACI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76240" y="2198160"/>
            <a:ext cx="9018720" cy="29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ke amortizacije je potrebno obračunati v skladu z nacionalnimi predpisi in internimi akti upravičenca, če ti določajo daljše obdobje amortiz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račun za osnovno sredstvo, za katerega se uveljavlja amortizacija kot upravičen stroš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5840" y="528120"/>
            <a:ext cx="8677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STROŠKI PLAČ IN POVRAČIL STROŠKOV V ZVEZI Z DELOM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5480" y="193500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STROŠKI PLA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ot zaposlene se razume osebe, ki so z upravičencem sklenile pogodbo o zaposlit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oglasje po ZUJF za javni sek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dločba ali sklep o letnem dopus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kazilo o plačilu vseh strošk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548235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400" spc="-1" strike="noStrike">
                <a:solidFill>
                  <a:srgbClr val="548235"/>
                </a:solidFill>
                <a:latin typeface="Calibri"/>
              </a:rPr>
              <a:t>STROŠKI ZA SLUŽBENA POT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ilometrina v skladu s 173. členom ZUJ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strošek nakupa dnevnih vinjet je upravičen le, če je namenjen izključno službenemu potovanju povezanem z oper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2e75b6"/>
                </a:solidFill>
                <a:latin typeface="Calibri"/>
              </a:rPr>
              <a:t>STROŠKI STORITEV ZUNANJIH IZVAJALC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80600" y="2028960"/>
            <a:ext cx="930924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oglasje po ZUJF za javni sek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dokazilo o plačilu pripadajočih davkov in prispevk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bračun avtorskega d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9800" y="8568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4472c4"/>
                </a:solidFill>
                <a:latin typeface="Calibri"/>
              </a:rPr>
              <a:t>UPORABA „POS“ 2014-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17240" y="1373040"/>
            <a:ext cx="93092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PAVŠALNO FINANCIR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lja se lahko za vse vrste stroškov (ne le za posred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25% pavšalno financiranje za posredne stroške na podlagi metodolog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do 15% pavšalnega financiranja za posredne stroške, ki se določijo na podlagi upravičenih neposrednih stroškov za oseb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uporaba stopenj pavšalnega financiranja, ki obstajajo v politikah Unije (Obzorje 2020, LIF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SS – do 40% za vse ostale stroške glede na upravičene neposredne stroške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8T12:05:15Z</dcterms:created>
  <dc:creator>Tanja Černe</dc:creator>
  <dc:description/>
  <dc:language>en-US</dc:language>
  <cp:lastModifiedBy>Tanja Černe</cp:lastModifiedBy>
  <dcterms:modified xsi:type="dcterms:W3CDTF">2015-11-30T12:20:10Z</dcterms:modified>
  <cp:revision>21</cp:revision>
  <dc:subject/>
  <dc:title>POSTOPEK IMENOVANJA</dc:title>
</cp:coreProperties>
</file>